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81E-B1D9-48D0-93C7-B454C016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09E-35E0-4DAB-BC85-282C9AB9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D450C-B310-4106-BF74-813305AE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3E8BC-E5A4-4A6C-8BEB-EE12A203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8B5E8-EDEE-44B6-9D4F-4A7ECCF2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C23DB-FEBE-4BF9-908E-58914C03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D6639-2629-4FE3-8E62-EC3626E8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64324-3FAA-4054-A73B-ADF55D16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EA401-1EF3-439C-9269-AF66A7B3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81125-3C36-4120-A8B3-355ED9AC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37A67-C225-48D5-83CE-FEBD0A51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AE957-644A-4986-8542-B7613E4B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813-49CA-4AD3-9C9C-10D1EA57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7F33E-55CD-4C5F-A44C-91B33CFA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39F30-8AEB-4750-8700-489C56E3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69A4A-C443-4EFE-8D2B-9E6836F9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D8716-9C13-4B5E-B3AE-95BF5822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AABCC-B3E4-4F9D-9B3F-3D1AA809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39BF1-11A5-4C65-8EF8-9A941F0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C6F3C-9C51-46F7-AA91-1C871927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9F19A-3695-442C-9B55-F220922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56618-157C-4C40-86D3-4D4C7A19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F6279-D48A-48C1-9DDB-D97BE0AE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791-0BF4-4765-B5E2-9B8B816A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75DFB-1A4D-44FD-9C55-FE0CF548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FA042-C475-4505-AD75-5717007B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33054-9052-4BA5-A593-39CE9D79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320DE-F790-4536-96C2-718C44DB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51B66-F220-4126-A9CB-7D992471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2B890-A4B2-4440-AF36-924E7CB6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BD979-1310-4D02-A7E8-3F29F23E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3FC61-B9A6-4145-9F2F-36C080B2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4DD61-9CFB-4328-995E-71FFB6FD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CEB58-A68A-47EA-A4C3-0C018B6E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40C8-B286-40A6-90E6-3BF9624D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03EBE-8172-4837-9D9B-7011F259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6FC8E-457A-4911-BD25-4282203D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0A1D8-B089-4B58-BE6B-8E64D37A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6BF72-FB3A-4E1D-9616-3036B570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0468E-CE32-46F7-A5EE-1700B432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4FA6F-89D7-4D12-BED0-280833BD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FE249-559F-4BB8-A730-054B3133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3114E-D37D-48DE-B3D4-D1E009CF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9BC9C-F2DB-4CB5-8460-178E8FB1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B2527-EC8D-4DBD-A178-1E4D92A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9E11-9D09-4ACD-AFB6-10F0A231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74D7C-1E77-4A67-BC14-F90DF2B9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F0A79-5FEA-4E4D-BF1B-B96FCE87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0D4CD-66AD-4A7F-A0CE-06F00526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1A359-B3C7-4253-9F54-F8DC26E6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0A7B8-64A8-46AC-B8F4-E025815F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67984-925A-445B-868E-41410A62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A49A3-2A8B-406E-B933-85ED2B54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EC3A0-ACEB-41D5-B92A-E9DFAA2F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C36C1-EAEB-4E68-B5B3-87AF0D4C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1ABA4-8B59-4AD1-ACCC-61A0763C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0089-EAD5-4951-8C21-CB9F85D9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056F7-431D-47B4-92F3-D2A36FD0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79A21-2E22-46D0-964C-B7CCCCDB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ADC79-95C3-4044-BD10-25C84B02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F1BF8-35A7-4D84-8072-32D58716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20960-6710-4FD9-B22D-2EE0ED37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03640-39E7-4D81-A693-6E5879FA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A91B1-DA34-409E-9573-9E402B7E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6B94D-C095-4639-9A5C-60301A30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F07EF-9E84-40DC-B241-DB7C3115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D2DEB-3C21-45D7-8487-CF354719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1CC1-6FA6-443C-8612-5A3F9A28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B20E4-9C22-4D29-A07E-3444B516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50553-2B41-4978-8D2A-224A6D2F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2021B-3FD8-4A82-A69A-6D5A88D3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D0B3C-34C5-4F52-BA07-931F8F56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52528-41CB-48F6-B916-1BC9B84C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25571-6FCD-41B4-B495-2427EDB3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D38EC-8163-406A-984F-CF49D504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11FD2-CC8F-4F4A-9045-D3CE758E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8DA5E-3F01-4729-A6DD-80147E8B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5205AE-A70D-48A8-B089-7C23BA81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B68F-9100-44F7-B8FE-7664043E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09D2C-8651-44CF-84DA-C3F7263E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05419-5D2C-4F0C-A5F5-C32436C2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C5E61-2D06-408E-932E-6227EC9E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47AF2-1819-488F-BA06-9270FD99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7B233-1238-4B14-BFD1-92637C49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83D1F-D4D4-495A-A150-1CC71587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EA1C2B-EA07-4A64-9301-DEC85227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1CCD5-2782-4487-9379-5F1B0CB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27900-A9FA-41BC-A495-F97D632D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06342-EBA9-42B0-840E-D00F7C00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34C5-3DC3-409A-AB2D-C9DF4E0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832F9-EECC-4AF2-9B45-C0AC84EB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8D6CA-FD57-4F23-A4A2-40DFC09B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BF398-2833-44DA-8970-17964446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1DCD9-6F64-467B-8C67-7A4B4A89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83546-3F65-4933-A212-BAF0F914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D3652-B79D-4521-B7C6-FF34FB8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058D7-7C5E-431A-8FFE-FD9BD6F5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CB955-4FE8-401B-AE4D-BF74460B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E2451-534C-491D-AA88-63EF74C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985B2-ED18-482B-A185-8F310C94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FCC3-3652-4A1B-885A-3D4EA9CB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37C02C-9742-4C7F-925F-7A9A89A8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FDD44-CDBC-441E-9D3F-FE0EB4A5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01B1A4-A085-4AB3-B170-10B30C4A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A1371-007A-4B01-9CED-6333C21E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B2F3C-2F37-49D9-B8F7-86832D04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5FACE-924C-496D-8C93-B0DCDB08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08F32-BCDC-49E5-9B77-E0BF44B2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2F787-42E9-45CC-9EF7-4C8FC0D0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EDCC4-C724-4291-8129-C25AB2A7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8D1AE-B270-46CB-AEEC-2492D8CB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5F4-1D66-40D5-A329-DECF1699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071F-08EF-458D-A0A2-99F1CA86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9B848-D890-4303-B0BD-181CBEF0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7F2789-FEC5-4838-9E21-3A6988FB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5E48FB-0FB8-43D1-9EBB-3030805C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74727-FBC2-474A-9402-12E90E72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B1D91-E1BC-43C3-98EB-D67CCAD1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8E5108-8EA0-4A83-BA56-6BD4BD3C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EE16FE-B556-4C55-B18C-07592112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A02839-A9BA-4133-B84F-9ACD7A67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C9CC2-02A4-400F-8679-DF51A1DA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AF7C29-2CCA-4A2B-B438-965856A7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A6E5-480F-411C-B984-F93A4CE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66BEF-1CFE-4D10-A2F7-E24087C4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81A1AE-237C-434E-833C-80F70141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7EDD47-11F6-4062-BD32-8BD952FB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12F34-C30C-4A96-B9A9-D1BC3CB3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9C2BC-8428-4C70-85B8-D841E6E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E8991-C11C-4C29-9171-9D6ACBB6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AA969-BD0F-4361-AD60-5600F606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ED56E-6A6D-4CE5-A66D-F869F10C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B47A65-12D3-46E1-A838-BFA7D8ED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929260-085C-408F-8BB0-FA62F25D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929F-1690-45FF-B53C-AB96383E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04918-BB7A-4A19-ADD1-858C027A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49A72-0A24-4BC1-8F0E-F910FBE8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07980-B928-4D96-AD32-E6495A35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EC5886-4B99-4771-AFEB-C8A1AF8B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7D5DA-EE73-42CD-951C-0A9166FB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A2C79-178E-4B3A-9B10-0F307AB9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9C5B34-2C56-4714-9304-F88CA799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35D72-A57E-48E8-A1DB-0EA30725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AAAC8C-50BE-49C0-ABC2-DE678E7F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2319B-C905-493E-85CE-7DC875FD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57CF-F981-46EE-8D84-324EFFB4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80A03-4B38-45C1-AE4C-D615BE7D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EB2F97-4849-4E29-A318-F591F02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50D2F-57FB-443C-AE03-587826DD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770EF-63EE-4744-8A81-D38076F9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8F7FF-CA77-479A-B7F1-C59D28E6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654A5-4EA7-4F84-A141-05AA1017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22EE0C-9876-41D8-B874-FBE054B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6B7E4-FC9C-46FA-AED7-77DC0F9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302E8F-4451-411B-9ED6-78F2F9A2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9C23D-A172-4FE1-BDD5-B67DE53A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841A-5993-480B-97F3-636D5C6E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E57E5A-0E80-4E1F-B1DC-76E97F5F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088DF5-F39C-49F1-95F4-55C148BA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68D485-E808-488E-A8D4-A91A0AE4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EA686C-F02F-4F59-B4FA-8742F12D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728169-F1FB-4953-A9E0-1C8E97CB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51574F-FAB0-4872-A925-5EDEF62E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BC9B6-CD0E-4C00-BAF2-B523F5CB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EDCD1-56FA-492B-ABC2-000D6A36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4BB30-CBDC-4092-B432-58E9C288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BD1F3B-291C-49E1-9474-5B6F804C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BA0C-DA00-4932-B1C4-43D913A0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A0C0B5-7E10-4FF4-807B-80A11F5B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C79A48-4869-439B-ACD6-BE2A0A38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1A6EC-F8CD-4641-B4FF-CE2D114D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EF36-3251-423B-AC09-80C551C1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4760-89B4-4833-B58A-7713F204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A71F-12E0-4A01-86DB-CB3D78E4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E48C-819B-49E2-BDF2-01BA3108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E57-BD11-4DA0-B64F-2A48084B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334E-C26D-46D4-8EBC-8ABA8559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84B2-CF29-4FB5-AE95-D1A9473B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ECAA-8234-4ABB-98F2-0FF0C289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1932-D484-41A9-B61C-BDCAE8ED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CBD7-0402-4562-9E94-8A7A9064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1CEF8-09FE-467D-AB52-0A2E5C6F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FA4C-3308-46DD-9570-F54A1164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73152-D097-4333-BAE9-2C339B8C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C4721-3C60-4797-BD99-B28E5702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D17B3-AF2B-420C-AB4E-8FC9F9E7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A9A-7B61-4C4C-B290-22332124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0EBC-C245-4D69-B5C1-9A196A80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5DCB-8D43-4A39-9E80-22115A57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9F3AA-4796-4A73-9B63-4CD81D69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06879-F2D2-402B-886A-0F028B88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051BD-42B0-4A9D-A806-BFE81CCF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17E7-11CD-4A34-A2F2-28B261D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B3774-73E8-4F6E-822B-65ADE5F4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67F8-71B8-4B58-B18E-26EB75AC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DC2FF-D5BB-49F7-9F5F-496353A8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8632A-89D7-47CC-88BF-8966D614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708-F065-44B9-890E-40E571C1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2A9B2-9F94-4EC5-9B63-F5FBE7CC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C8B24-847D-473C-B4FA-FB5F09D0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6D0E2-1543-4E2F-837B-3D25A454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804E9-4D84-4BBA-A075-4F52797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E96E4-E9E6-46C4-9F84-A54F1F08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AFA3-9A63-4180-8109-F0E5C8CB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C657D-D7DD-4513-B37A-C2D2A6AF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D43C-6883-4079-B9D9-78A85AF2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61E96-5E6A-4BBD-B29E-DDB2689F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CF4F2-C1F9-4A96-A818-73E8EB38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C3B-4C18-4894-8A83-BC4ADE72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B7917-7628-4EAA-ACBB-9B9B1295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05314-3020-4A7E-8B1F-04B1ACAD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DD6A-850F-4529-9C93-74DFED6E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70369-6D33-47A7-943F-1A012585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A2980-5FB0-4A09-AF57-65918DE3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88A69-D7B5-4934-9A25-FADE2C14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ECB6A-9944-42F9-960B-4309CA95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E0B88-C30D-4940-B035-A2A768BE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7CBE6-EFA8-4C87-84FB-0A9DDA9F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90A17-C245-4B9F-8F30-CDF6C183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399-8D94-421D-87BF-EB6853B1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9922E-7C75-47F6-B2F5-AD57DDD7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E4734-C635-4D25-B251-85424D88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1E81A-3926-462A-9225-03CF6388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00C4E-05A1-4CA1-94E3-3873C8B6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A996-D5E9-446D-803C-2D56B467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B6030-B249-409F-9C5A-B1561EDD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83564-D006-4876-81AA-53BB18C7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DDCAC-B249-430D-975D-4359E097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CAC82-A1F4-4CAC-A7EB-BD9F4985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80CB-AC5B-43F0-B7DD-3A29D880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C9F-55B8-4513-BDF9-1DB584C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6604A-9B31-4FE0-B8BD-3A37719A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35B13-8CE6-4CA1-9A8D-0A0603D5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9ACB3-E53A-4B58-B209-5D1864C9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97C97-EB8F-4157-98A1-461715C4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3AA1-491F-44D9-AD2F-0D21D8B0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B13DD-9A5B-4016-92DA-985873DC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0FFB7-D065-474A-A093-23F02DF6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A4CB1-17E2-4ABC-ADA9-93438AB5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29482-7875-4020-9F32-AC954FAB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F3B13-8B1C-48CD-89D6-BD55EA93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C79-1C5D-451D-B138-442FCEAC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1BE8B-87F3-4039-A9EF-FFD8A322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7F538-B6E9-418F-AC9E-84F2909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18182-5D43-4341-8310-7F95A508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12347-8A1A-461A-8AC2-69DD6D9D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831DC-55BA-4B68-B160-619AED63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E4588-7B88-48DC-BEC1-59CC177A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77655-CB35-4EB2-8387-00EC0F2C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D626E-476D-4D73-8FC0-D4E6E2C8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5A0BA-C324-49AE-A137-6804151E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50994-ECB0-430E-86BB-2D372C44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2BC3-D51F-42B8-84C1-5500E837B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EF63-C6FF-447B-865D-F63159C78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E3C7-A9E4-48D7-907E-A9B1E563A7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F671-5E5F-487F-9D72-DC62D27ACD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8A4F-7A10-4F16-B3AA-F5DF2C0B45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7B64-8355-45D4-9FAD-0457620D14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CC57-F848-4F88-9309-084658FB9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EB47-6ECA-4184-986E-282F34E6A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630F-6A03-4B67-B74C-E18A77EFDD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5D58-D7CF-4288-A6B3-8AF28538A3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B654-718C-4B0F-96C1-9C8D975788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A8F3-423F-4239-A15F-191FFBE8D4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98CB-7F75-4E29-B8BF-FE69C7BA22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C34D-7FDC-4733-BBAF-0218829B69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4B44-8E6B-49BF-AC46-F2EB005501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A94B-AFEE-48D0-B3B8-9146824DB9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6819-103F-49B4-86C2-70087FEA47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8BF7-296A-4CDE-9D02-91A59D0872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F136-6040-46DC-9C06-0E8D31C097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2F1D-6DC5-4631-9A83-E0B879FBE7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6404-4AAB-47CC-B2C2-EDFA1869A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6217-A9EF-48AF-B392-38AFB1BF99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2EF9-C573-4187-8DBA-395D768C97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6428-1B69-454A-9DC0-4ECC15A4BB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67F4-3B7B-4304-B48D-FCB7D88CBE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04D0-006A-4D96-B2EE-8F6846E278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753D-A390-43A3-A14F-CF11959B3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C629-01E7-4E2D-9A58-A07267D2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E529-2EFE-442C-8F92-D5FB4FF7D1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E622-FC8E-407D-86CE-3CBF6DEEF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D058-4C45-4EEA-8EE8-1BD3A117D4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9CAD-90A2-4D3F-BD95-F1EFC384B8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450C-4B47-40B3-AAFF-F83D32D2F6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BAA3-A82D-413B-A802-DA74151D6D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A5E-5A59-4A78-AF02-C31D62910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AAB7-9433-4733-9433-AB8CB807D8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52D8-0096-45A5-A3B5-9FEB98B350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8E80-75EC-426F-AD4F-B46EE3504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BC28-2E28-4308-99E3-456A8A0DCB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B01F-7A0D-4FFF-BF59-50423BB63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266920" y="3014640"/>
            <a:ext cx="4610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96840" y="2846520"/>
            <a:ext cx="8950320" cy="1417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771640" y="38606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8244000" y="386064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6443640" y="38606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900000" y="38606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643280" y="3860640"/>
            <a:ext cx="4320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57320" y="1332000"/>
            <a:ext cx="8827920" cy="243828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2" descr=""/>
          <p:cNvPicPr/>
          <p:nvPr/>
        </p:nvPicPr>
        <p:blipFill>
          <a:blip r:embed="rId2"/>
          <a:stretch/>
        </p:blipFill>
        <p:spPr>
          <a:xfrm>
            <a:off x="210960" y="3990960"/>
            <a:ext cx="8775720" cy="12762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28800" y="184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900000" y="234936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900000" y="2852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900000" y="3357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7"/>
          <a:stretch/>
        </p:blipFill>
        <p:spPr>
          <a:xfrm>
            <a:off x="900000" y="4437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8"/>
          <a:stretch/>
        </p:blipFill>
        <p:spPr>
          <a:xfrm>
            <a:off x="5479920" y="442260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9"/>
          <a:stretch/>
        </p:blipFill>
        <p:spPr>
          <a:xfrm>
            <a:off x="900000" y="494172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0"/>
          <a:stretch/>
        </p:blipFill>
        <p:spPr>
          <a:xfrm>
            <a:off x="5464080" y="4941720"/>
            <a:ext cx="4320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8" name="组合 6147"/>
          <p:cNvGrpSpPr/>
          <p:nvPr/>
        </p:nvGrpSpPr>
        <p:grpSpPr>
          <a:xfrm>
            <a:off x="157320" y="1614600"/>
            <a:ext cx="8827920" cy="3628800"/>
            <a:chOff x="157320" y="1614600"/>
            <a:chExt cx="8827920" cy="3628800"/>
          </a:xfrm>
        </p:grpSpPr>
        <p:pic>
          <p:nvPicPr>
            <p:cNvPr id="1049" name="图片 2" descr=""/>
            <p:cNvPicPr/>
            <p:nvPr/>
          </p:nvPicPr>
          <p:blipFill>
            <a:blip r:embed="rId1"/>
            <a:stretch/>
          </p:blipFill>
          <p:spPr>
            <a:xfrm>
              <a:off x="157320" y="1614600"/>
              <a:ext cx="8827920" cy="36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1" descr=""/>
            <p:cNvPicPr/>
            <p:nvPr/>
          </p:nvPicPr>
          <p:blipFill>
            <a:blip r:embed="rId2"/>
            <a:stretch/>
          </p:blipFill>
          <p:spPr>
            <a:xfrm>
              <a:off x="1403280" y="3255840"/>
              <a:ext cx="7129440" cy="9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1" name="直接连接符 6148"/>
          <p:cNvSpPr/>
          <p:nvPr/>
        </p:nvSpPr>
        <p:spPr>
          <a:xfrm>
            <a:off x="1547640" y="3241800"/>
            <a:ext cx="2160720" cy="10508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6149"/>
          <p:cNvSpPr/>
          <p:nvPr/>
        </p:nvSpPr>
        <p:spPr>
          <a:xfrm flipH="1">
            <a:off x="1618920" y="3227400"/>
            <a:ext cx="2089080" cy="10652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6150"/>
          <p:cNvSpPr/>
          <p:nvPr/>
        </p:nvSpPr>
        <p:spPr>
          <a:xfrm>
            <a:off x="6084720" y="3213000"/>
            <a:ext cx="2160720" cy="10512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直接连接符 6151"/>
          <p:cNvSpPr/>
          <p:nvPr/>
        </p:nvSpPr>
        <p:spPr>
          <a:xfrm flipH="1">
            <a:off x="5940000" y="3227400"/>
            <a:ext cx="2089080" cy="10652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23:42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